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36CA-4699-4B03-B93F-8A4429B3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F817-04EA-4AAA-A89D-04B7C6A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826AB-7219-4367-803D-804D7DBA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03EF-3A1D-4078-B685-8B38D86D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307A-5671-4F3E-90B0-D3C07B83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B273-8BF4-4B5F-A0C2-D576F7E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3A79-60DF-46A1-B89F-E22471EC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4F65-5BA6-41DA-B432-32B6FEF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A6CA-18A8-4EC8-8CAB-FEF1F20E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9F4F-4D2D-4352-992B-0816E6B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18D4-1CD5-43E0-B309-46FB76D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691A-5F12-4F04-A149-E42D634E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476D-6331-45C4-90BF-45862B7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6CD-7E9F-40C5-B16F-3C2234E0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0CB7-6492-4724-812F-BF290919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A773-E87F-4F90-AFDD-183A9BFB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F804-0F5D-418C-86E9-644A9623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FF4E-E6C5-4E81-9595-32F0DFFD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D646-5B77-4D29-97CA-26256B3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36FE7-47F1-466C-894E-2BD61C7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9AE0-377F-4D71-9235-C59330F5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BD3B-EE19-4826-8E00-6D63C4FA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5B6D-A227-4108-BE2A-B06A751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891E-7FE7-4E5C-82C6-17799B7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88A-7595-4125-8CCC-C713565A9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823-1194-409A-8911-73B657E8D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f.net/projects/turnke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lmusic.com/" TargetMode="External"/><Relationship Id="rId2" Type="http://schemas.openxmlformats.org/officeDocument/2006/relationships/hyperlink" Target="http://www.biopip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ci.csusb.edu/dick/cs320/handouts/uml11.md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qlfairy.sf.net/" TargetMode="External"/><Relationship Id="rId2" Type="http://schemas.openxmlformats.org/officeDocument/2006/relationships/hyperlink" Target="http://sqlfairy.sf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n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1907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Verdana"/>
              </a:rPr>
              <a:t>for any database sch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468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llen Day, Sep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47480" y="3581280"/>
            <a:ext cx="534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generate a web front 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known as “gmod-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 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f.net/projects/tur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de generator produces D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 mapping and displa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 Web-based front-end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provi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access to Chado and/or GUS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GMOD web-based projects (gbrowse, textpresso, et al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ramework to “plug in” more functionalit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s, history, shopping cart,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(base) schema/model model agnostic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 with “All Music Guide”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allmusic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opipe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www.biopip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process tracker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--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REATE TABLE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86400" y="1660680"/>
            <a:ext cx="2743200" cy="1692000"/>
            <a:chOff x="5486400" y="1660680"/>
            <a:chExt cx="2743200" cy="1692000"/>
          </a:xfrm>
        </p:grpSpPr>
        <p:sp>
          <p:nvSpPr>
            <p:cNvPr id="117" name=""/>
            <p:cNvSpPr/>
            <p:nvPr/>
          </p:nvSpPr>
          <p:spPr>
            <a:xfrm>
              <a:off x="5829840" y="1660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Directed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133720"/>
              <a:ext cx="457200" cy="457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9548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895480"/>
              <a:ext cx="457200" cy="4572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0" idx="2"/>
              <a:endCxn id="119" idx="0"/>
            </p:cNvCxnSpPr>
            <p:nvPr/>
          </p:nvCxnSpPr>
          <p:spPr>
            <a:xfrm>
              <a:off x="8000640" y="2603520"/>
              <a:ext cx="108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1"/>
              <a:endCxn id="118" idx="3"/>
            </p:cNvCxnSpPr>
            <p:nvPr/>
          </p:nvCxnSpPr>
          <p:spPr>
            <a:xfrm flipH="1">
              <a:off x="748008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1" idx="3"/>
              <a:endCxn id="118" idx="1"/>
            </p:cNvCxnSpPr>
            <p:nvPr/>
          </p:nvCxnSpPr>
          <p:spPr>
            <a:xfrm>
              <a:off x="671832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6324120" y="2603160"/>
              <a:ext cx="1080" cy="292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647676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>
              <a:off x="5943240" y="228564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5943240" y="243792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6095520" y="3581280"/>
            <a:ext cx="2514960" cy="1524240"/>
            <a:chOff x="6095520" y="3581280"/>
            <a:chExt cx="2514960" cy="1524240"/>
          </a:xfrm>
        </p:grpSpPr>
        <p:grpSp>
          <p:nvGrpSpPr>
            <p:cNvPr id="133" name=""/>
            <p:cNvGrpSpPr/>
            <p:nvPr/>
          </p:nvGrpSpPr>
          <p:grpSpPr>
            <a:xfrm>
              <a:off x="7086600" y="3733920"/>
              <a:ext cx="1523880" cy="1371600"/>
              <a:chOff x="7086600" y="3733920"/>
              <a:chExt cx="1523880" cy="1371600"/>
            </a:xfrm>
          </p:grpSpPr>
          <p:pic>
            <p:nvPicPr>
              <p:cNvPr id="134" name="cookie_cutters" descr=""/>
              <p:cNvPicPr/>
              <p:nvPr/>
            </p:nvPicPr>
            <p:blipFill>
              <a:blip r:embed="rId1">
                <a:lum bright="6000"/>
              </a:blip>
              <a:stretch/>
            </p:blipFill>
            <p:spPr>
              <a:xfrm>
                <a:off x="7086600" y="4089600"/>
                <a:ext cx="15238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086600" y="3733920"/>
                <a:ext cx="143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Templ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95520" y="3581280"/>
              <a:ext cx="838440" cy="1219320"/>
              <a:chOff x="6095520" y="3581280"/>
              <a:chExt cx="838440" cy="121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5880" y="3581280"/>
                <a:ext cx="0" cy="121932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095520" y="4191120"/>
                <a:ext cx="838440" cy="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451320" y="1676520"/>
            <a:ext cx="1425960" cy="1616040"/>
            <a:chOff x="3451320" y="1676520"/>
            <a:chExt cx="1425960" cy="1616040"/>
          </a:xfrm>
        </p:grpSpPr>
        <p:pic>
          <p:nvPicPr>
            <p:cNvPr id="140" name="gears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511440" y="19209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51320" y="167652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58360" y="4876920"/>
            <a:ext cx="2105640" cy="1602000"/>
            <a:chOff x="5058360" y="4876920"/>
            <a:chExt cx="2105640" cy="1602000"/>
          </a:xfrm>
        </p:grpSpPr>
        <p:pic>
          <p:nvPicPr>
            <p:cNvPr id="143" name="gears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5410080" y="487692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58360" y="608004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d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29000" y="2514600"/>
            <a:ext cx="16765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9720" y="4876920"/>
            <a:ext cx="838080" cy="609480"/>
            <a:chOff x="4419720" y="4876920"/>
            <a:chExt cx="838080" cy="609480"/>
          </a:xfrm>
        </p:grpSpPr>
        <p:sp>
          <p:nvSpPr>
            <p:cNvPr id="147" name=""/>
            <p:cNvSpPr/>
            <p:nvPr/>
          </p:nvSpPr>
          <p:spPr>
            <a:xfrm flipH="1">
              <a:off x="4419720" y="487692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19720" y="518148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548640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4191120"/>
            <a:ext cx="3731760" cy="1981080"/>
            <a:chOff x="457200" y="4191120"/>
            <a:chExt cx="3731760" cy="1981080"/>
          </a:xfrm>
        </p:grpSpPr>
        <p:pic>
          <p:nvPicPr>
            <p:cNvPr id="151" name="sprock" descr=""/>
            <p:cNvPicPr/>
            <p:nvPr/>
          </p:nvPicPr>
          <p:blipFill>
            <a:blip r:embed="rId4"/>
            <a:stretch/>
          </p:blipFill>
          <p:spPr>
            <a:xfrm>
              <a:off x="457200" y="4343400"/>
              <a:ext cx="132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83360" y="48769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XML/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5280" y="5410080"/>
              <a:ext cx="914400" cy="76212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800" y="41911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4760" y="4395960"/>
            <a:ext cx="685800" cy="1395360"/>
            <a:chOff x="1904760" y="4395960"/>
            <a:chExt cx="685800" cy="1395360"/>
          </a:xfrm>
        </p:grpSpPr>
        <p:sp>
          <p:nvSpPr>
            <p:cNvPr id="156" name=""/>
            <p:cNvSpPr/>
            <p:nvPr/>
          </p:nvSpPr>
          <p:spPr>
            <a:xfrm flipH="1">
              <a:off x="1904760" y="579132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04760" y="50817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04760" y="43959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3809880"/>
            <a:ext cx="3810240" cy="2667240"/>
            <a:chOff x="380880" y="3809880"/>
            <a:chExt cx="3810240" cy="2667240"/>
          </a:xfrm>
        </p:grpSpPr>
        <p:sp>
          <p:nvSpPr>
            <p:cNvPr id="160" name=""/>
            <p:cNvSpPr/>
            <p:nvPr/>
          </p:nvSpPr>
          <p:spPr>
            <a:xfrm>
              <a:off x="380880" y="4038480"/>
              <a:ext cx="3810240" cy="243864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388620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5960" y="38098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urnkey 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429000"/>
            <a:ext cx="4114800" cy="3200400"/>
            <a:chOff x="228600" y="3429000"/>
            <a:chExt cx="4114800" cy="320040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4114800" cy="297180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350532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34290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Apache / mod_per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8600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80988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533412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7543440" y="3225960"/>
            <a:ext cx="108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75434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6476760" y="42667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>
            <a:off x="4978080" y="426672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497808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650160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rot="5400000">
            <a:off x="6018120" y="761040"/>
            <a:ext cx="2160" cy="3048840"/>
          </a:xfrm>
          <a:prstGeom prst="bentConnector3">
            <a:avLst>
              <a:gd name="adj1" fmla="val -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464796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49532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>
            <a:off x="345420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345420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194328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>
            <a:off x="3428280" y="3200040"/>
            <a:ext cx="6102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3428280" y="41144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H="1">
            <a:off x="3454200" y="44193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194328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514600" y="2286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8001000" y="2742840"/>
            <a:ext cx="2160" cy="3048840"/>
          </a:xfrm>
          <a:prstGeom prst="bentConnector3">
            <a:avLst>
              <a:gd name="adj1" fmla="val 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479160" y="4266720"/>
            <a:ext cx="6581880" cy="763920"/>
            <a:chOff x="479160" y="4266720"/>
            <a:chExt cx="6581880" cy="763920"/>
          </a:xfrm>
        </p:grpSpPr>
        <p:sp>
          <p:nvSpPr>
            <p:cNvPr id="198" name=""/>
            <p:cNvSpPr/>
            <p:nvPr/>
          </p:nvSpPr>
          <p:spPr>
            <a:xfrm>
              <a:off x="479160" y="4662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>
              <a:off x="4978080" y="426672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 flipH="1">
              <a:off x="6476760" y="42667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60440" y="2039760"/>
            <a:ext cx="7083000" cy="3281400"/>
            <a:chOff x="460440" y="2039760"/>
            <a:chExt cx="7083000" cy="3281400"/>
          </a:xfrm>
        </p:grpSpPr>
        <p:sp>
          <p:nvSpPr>
            <p:cNvPr id="202" name=""/>
            <p:cNvSpPr/>
            <p:nvPr/>
          </p:nvSpPr>
          <p:spPr>
            <a:xfrm>
              <a:off x="460440" y="4952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ultipath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497808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H="1">
              <a:off x="650160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 rot="5400000">
              <a:off x="6018120" y="761040"/>
              <a:ext cx="2160" cy="3048840"/>
            </a:xfrm>
            <a:prstGeom prst="bentConnector3">
              <a:avLst>
                <a:gd name="adj1" fmla="val -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460440" y="2742840"/>
            <a:ext cx="7785360" cy="3048480"/>
            <a:chOff x="460440" y="2742840"/>
            <a:chExt cx="7785360" cy="3048480"/>
          </a:xfrm>
        </p:grpSpPr>
        <p:sp>
          <p:nvSpPr>
            <p:cNvPr id="207" name=""/>
            <p:cNvSpPr/>
            <p:nvPr/>
          </p:nvSpPr>
          <p:spPr>
            <a:xfrm>
              <a:off x="460440" y="527220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eedforward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>
              <a:off x="8001000" y="2742840"/>
              <a:ext cx="2160" cy="3048840"/>
            </a:xfrm>
            <a:prstGeom prst="bentConnector3">
              <a:avLst>
                <a:gd name="adj1" fmla="val 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460080" y="4749480"/>
            <a:ext cx="4188600" cy="1195560"/>
            <a:chOff x="460080" y="4749480"/>
            <a:chExt cx="4188600" cy="1195560"/>
          </a:xfrm>
        </p:grpSpPr>
        <p:sp>
          <p:nvSpPr>
            <p:cNvPr id="210" name=""/>
            <p:cNvSpPr/>
            <p:nvPr/>
          </p:nvSpPr>
          <p:spPr>
            <a:xfrm>
              <a:off x="460080" y="55767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43430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464796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449532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60440" y="3200040"/>
            <a:ext cx="3578040" cy="3035520"/>
            <a:chOff x="460440" y="3200040"/>
            <a:chExt cx="3578040" cy="3035520"/>
          </a:xfrm>
        </p:grpSpPr>
        <p:sp>
          <p:nvSpPr>
            <p:cNvPr id="215" name=""/>
            <p:cNvSpPr/>
            <p:nvPr/>
          </p:nvSpPr>
          <p:spPr>
            <a:xfrm>
              <a:off x="460440" y="58672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rected gra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 flipH="1">
              <a:off x="3428280" y="41144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flipH="1">
              <a:off x="3454200" y="44193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/>
            <p:nvPr/>
          </p:nvCxnSpPr>
          <p:spPr>
            <a:xfrm flipH="1">
              <a:off x="3428280" y="3200040"/>
              <a:ext cx="61020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461520" y="2590560"/>
            <a:ext cx="3576960" cy="3964320"/>
            <a:chOff x="461520" y="2590560"/>
            <a:chExt cx="3576960" cy="3964320"/>
          </a:xfrm>
        </p:grpSpPr>
        <p:sp>
          <p:nvSpPr>
            <p:cNvPr id="220" name=""/>
            <p:cNvSpPr/>
            <p:nvPr/>
          </p:nvSpPr>
          <p:spPr>
            <a:xfrm>
              <a:off x="461520" y="6186600"/>
              <a:ext cx="29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nother non-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/>
            <p:nvPr/>
          </p:nvCxnSpPr>
          <p:spPr>
            <a:xfrm flipH="1">
              <a:off x="345420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345420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194328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194328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60080" y="3225960"/>
            <a:ext cx="7084080" cy="2108160"/>
            <a:chOff x="460080" y="3225960"/>
            <a:chExt cx="7084080" cy="2108160"/>
          </a:xfrm>
        </p:grpSpPr>
        <p:sp>
          <p:nvSpPr>
            <p:cNvPr id="226" name=""/>
            <p:cNvSpPr/>
            <p:nvPr/>
          </p:nvSpPr>
          <p:spPr>
            <a:xfrm>
              <a:off x="460080" y="4357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ference / inher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7543440" y="3225960"/>
              <a:ext cx="1080" cy="58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75434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not Ideal for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9880" y="2286000"/>
            <a:ext cx="1469880" cy="4443480"/>
            <a:chOff x="839880" y="2286000"/>
            <a:chExt cx="1469880" cy="4443480"/>
          </a:xfrm>
        </p:grpSpPr>
        <p:sp>
          <p:nvSpPr>
            <p:cNvPr id="231" name=""/>
            <p:cNvSpPr/>
            <p:nvPr/>
          </p:nvSpPr>
          <p:spPr>
            <a:xfrm>
              <a:off x="9889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89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89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>
              <a:off x="144576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14457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839880" y="63612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 expor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2286000"/>
            <a:ext cx="1071000" cy="4406760"/>
            <a:chOff x="3124080" y="2286000"/>
            <a:chExt cx="1071000" cy="4406760"/>
          </a:xfrm>
        </p:grpSpPr>
        <p:sp>
          <p:nvSpPr>
            <p:cNvPr id="238" name=""/>
            <p:cNvSpPr/>
            <p:nvPr/>
          </p:nvSpPr>
          <p:spPr>
            <a:xfrm>
              <a:off x="312408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358092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3580920" y="472428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202200" y="6324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2286000"/>
            <a:ext cx="951480" cy="4406760"/>
            <a:chOff x="5257800" y="2286000"/>
            <a:chExt cx="951480" cy="4406760"/>
          </a:xfrm>
        </p:grpSpPr>
        <p:sp>
          <p:nvSpPr>
            <p:cNvPr id="245" name=""/>
            <p:cNvSpPr/>
            <p:nvPr/>
          </p:nvSpPr>
          <p:spPr>
            <a:xfrm>
              <a:off x="525780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71464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571464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472428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720" y="327672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3200" y="6324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7720" y="2286000"/>
            <a:ext cx="1105920" cy="4406760"/>
            <a:chOff x="7317720" y="2286000"/>
            <a:chExt cx="1105920" cy="4406760"/>
          </a:xfrm>
        </p:grpSpPr>
        <p:sp>
          <p:nvSpPr>
            <p:cNvPr id="254" name=""/>
            <p:cNvSpPr/>
            <p:nvPr/>
          </p:nvSpPr>
          <p:spPr>
            <a:xfrm>
              <a:off x="73915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>
              <a:off x="78483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7696080" y="472428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784836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60" name=""/>
            <p:cNvSpPr/>
            <p:nvPr/>
          </p:nvSpPr>
          <p:spPr>
            <a:xfrm>
              <a:off x="7317720" y="63244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o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’Connor (presenting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429000" y="1828800"/>
            <a:ext cx="2819520" cy="2514600"/>
            <a:chOff x="3429000" y="1828800"/>
            <a:chExt cx="2819520" cy="2514600"/>
          </a:xfrm>
        </p:grpSpPr>
        <p:sp>
          <p:nvSpPr>
            <p:cNvPr id="264" name=""/>
            <p:cNvSpPr/>
            <p:nvPr/>
          </p:nvSpPr>
          <p:spPr>
            <a:xfrm flipV="1">
              <a:off x="3962520" y="25909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48520" y="1828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1828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42900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9112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(vs SQL) Driven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4382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ostgre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8920" y="19051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22096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SQ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840" y="2057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2096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800" y="304812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O/R Map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2004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840" y="3429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448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5146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5053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1240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5720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4956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1148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8769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4419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ML /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3400" y="4038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1240" y="48006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SVG / PNG /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514600"/>
            <a:ext cx="38124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3004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851440"/>
            <a:ext cx="6324480" cy="0"/>
          </a:xfrm>
          <a:prstGeom prst="line">
            <a:avLst/>
          </a:prstGeom>
          <a:ln w="1270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1160" y="6004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Increasing platform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33920" y="2590920"/>
            <a:ext cx="0" cy="1676160"/>
            <a:chOff x="3733920" y="2590920"/>
            <a:chExt cx="0" cy="1676160"/>
          </a:xfrm>
        </p:grpSpPr>
        <p:sp>
          <p:nvSpPr>
            <p:cNvPr id="301" name=""/>
            <p:cNvSpPr/>
            <p:nvPr/>
          </p:nvSpPr>
          <p:spPr>
            <a:xfrm>
              <a:off x="3733920" y="259092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3920" y="380988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2514600"/>
            <a:ext cx="2209680" cy="1982160"/>
            <a:chOff x="228600" y="2514600"/>
            <a:chExt cx="2209680" cy="1982160"/>
          </a:xfrm>
        </p:grpSpPr>
        <p:sp>
          <p:nvSpPr>
            <p:cNvPr id="304" name=""/>
            <p:cNvSpPr/>
            <p:nvPr/>
          </p:nvSpPr>
          <p:spPr>
            <a:xfrm>
              <a:off x="228600" y="2514600"/>
              <a:ext cx="22096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880" y="2590560"/>
              <a:ext cx="1752840" cy="1906200"/>
              <a:chOff x="380880" y="2590560"/>
              <a:chExt cx="1752840" cy="1906200"/>
            </a:xfrm>
          </p:grpSpPr>
          <p:pic>
            <p:nvPicPr>
              <p:cNvPr id="306" name="uml11" descr="Click to &#10;download this model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80880" y="2590560"/>
                <a:ext cx="1752840" cy="169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39880" y="4128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U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362320" y="2286000"/>
            <a:ext cx="609480" cy="2286000"/>
            <a:chOff x="2362320" y="2286000"/>
            <a:chExt cx="609480" cy="2286000"/>
          </a:xfrm>
        </p:grpSpPr>
        <p:sp>
          <p:nvSpPr>
            <p:cNvPr id="309" name=""/>
            <p:cNvSpPr/>
            <p:nvPr/>
          </p:nvSpPr>
          <p:spPr>
            <a:xfrm>
              <a:off x="2362320" y="236232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352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228600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3276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4495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4600" y="4419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::Translator (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qlfairy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.sf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37:18Z</dcterms:created>
  <dc:creator>jchen</dc:creator>
  <dc:description/>
  <dc:language>en-US</dc:language>
  <cp:lastModifiedBy>Scott Cain</cp:lastModifiedBy>
  <dcterms:modified xsi:type="dcterms:W3CDTF">2003-09-15T14:09:57Z</dcterms:modified>
  <cp:revision>44</cp:revision>
  <dc:subject/>
  <dc:title>Methods for Pipelining analysis of promoter regions</dc:title>
</cp:coreProperties>
</file>